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1DF-DB1A-4F96-968B-75BC69ED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144-7E8F-4D7E-A357-13687C15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AA3-3FA9-4350-838C-35B86034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9D2-769A-4D89-82CC-16258992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C8FB-D2AB-402E-9AF7-9905667D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50C4-4640-4E28-8B5F-DA67F385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6BC5-AEFF-43C2-B257-9992C094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1CE7-C44F-4DE8-9486-4AD1098B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83D5-188E-4BCE-AC1D-8AFEFC9D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AA1B-500C-4DDD-A7A3-CEF07AE7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4F60-1F91-4BC5-9542-A46300C5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537-E458-457D-8E2C-E25CBD5E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4442-CD59-4DA3-8109-8EEC4E8A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AA6C-817F-49B4-A07D-9B4F5217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64DC-A3A0-4ACE-889A-348B7DCE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7F5-3198-49DD-9966-32D16563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B574-F389-4FEF-8A42-171651E6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A3B9-230E-470D-BC81-9171515A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B412-C771-48A9-A349-6B391E8E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9079-B5D8-4ECB-B81E-DE770975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583F-E0FC-4027-86D5-1773479A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DF856-E1A1-4B0A-B3E7-8702A5F0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F99-F67A-4662-9F34-78A3BF09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BD01-44D0-4F2F-B86E-A04ED687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99240-9780-4A38-8A29-4304441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B2E9-34E0-48B3-A601-1028B3A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0193-450C-40B1-AC22-5815C58A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56A8-AE39-4D67-AA0B-05338A7A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4E783-138E-473F-A2D0-79E837CE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8202-7E5B-48DC-B8FF-92E46F6F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C01BC-161B-4DFD-90A3-3BFBCEE7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D5699-5C4B-4525-9E81-84B95D00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E7EC5-70A6-4C9B-B3E5-B29DC6DE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912-503B-477C-8431-3406596D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DA32-EE95-4785-85E7-5E08A8F5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69E26-7AF5-48E7-92C9-BB35509F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1BF4-0BEF-43CC-B77F-1B0BC8CF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7EFD-30BD-4600-9CEA-E3B28DCD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DC11B-12EE-4024-94DA-710A20F0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82167-F56B-4DCF-B5F8-6CD0EE13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BEBC-9A93-4D8E-995C-50759C27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11749-7C21-4A50-B152-1196446B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8EE5-40E2-4764-B754-9FD25D08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30815-6ABD-4799-8F40-D0A6382F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5EF-E23F-4B54-AB44-071F5B4C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BA1F4-00D2-4249-A89F-1DC02BB0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8FC50-9246-4A4A-A333-BBA02ECA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A3341-A11A-4CC8-A05B-481C6EFA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BE2DF-B85B-4A45-ACFA-2CD23DF5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93185-A617-4F05-8004-99179BAD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E972-95D6-4209-B862-F5364F0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5C060-A830-402A-A4AB-F9EC0297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377B6-12C4-4CEF-BB22-DF73509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3494C-176B-47CF-96E7-E0FDA83A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2F9F9-0731-41D7-BBCA-FCA87AE9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0EA-B1E8-4479-A0A4-759846F8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51247-04E7-43B2-B16D-084FBAEC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9083E-B218-4F13-BDE5-76B297B2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A5F09-F4AC-4B1B-AA66-820EDA07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622CB-2367-4718-8A9D-E0DB9D33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387A3-E6A2-4E53-ABB9-B41BC6E0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CDF83-E68B-4D39-A217-A6719323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6873D-B86A-4D62-8C3B-E6D69F3F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D4EB1-8F8F-4819-BEEC-E3189CF1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7AAD5-B0C3-47D4-A452-DB55ED6B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3C92B-3EF8-41D5-94FC-8F67F07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9C7-560E-427C-B792-488AF45E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478CC-746F-497C-9C19-3E24F2F0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CB746-0776-462B-8081-2CA557D7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592F1-F972-4BF9-91B9-654268A7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D58D4-91C1-4B09-9398-F162CBB2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8B4D4-67AD-42BE-B4D4-2A99F0A8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89A60-95FB-4AF8-A66D-19CC04A0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A55E5-5A3D-4375-9CFC-3E640F76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76B7F-5EBC-4218-A0A7-8FE43352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C376A-C495-4EBD-8F0E-A84A9D2C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36056-002A-4BC6-B944-CCB718EC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BE7-8FB0-4B20-AD85-FAA9CFB0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9CD73-5BE2-48C4-96C3-E68C7AF1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AD1DD-CAB6-4370-957B-FD9570F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BE189-1F2E-4230-978C-235DF145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92094-E490-400C-BFEA-597FBFDA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B5D7E-6E9D-48BB-8C35-9099897F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FFA49-B5BE-47F0-9D79-5A73C682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6830A-7424-4E82-BAA2-00E4F74E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75138-14F9-4FB6-9D52-59D352BD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D2886-360D-4022-BD62-A58C529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AD059-989D-4C53-8BD8-BBF8E6C6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74B-9FD5-432F-808A-1D3F5129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E7B29-3327-4140-9EE1-A7393DF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50B38-3944-4249-A006-2FF629D0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E11F0-B321-4EE4-9A39-FAC9540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274FB-FDAB-4639-A37B-11F63FD8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90AEC-5D9B-4774-A3D8-3E621849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7EDC3-0F9B-4626-AA3F-82E8A997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4A826-79F1-4ABB-BA7C-7ECD6F21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F2F6-22DD-4E18-8C9C-4540BBEECC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7EF-F9AE-40EA-B6B6-729FA64A87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BCFA-A4F7-4F0D-B18E-765211656C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875E-A86A-4BF4-803E-8B2B923720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E945-F15E-4D5E-9E42-F4EE2CCAEF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E06B-0441-4152-939F-7A5DB3637D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685E-90F8-4CDB-A2D9-2A83081A9E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B6BD-7787-4F49-89C5-F8AC9AEAAD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6480" y="2120760"/>
            <a:ext cx="9156960" cy="14875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0492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29200 </a:t>
            </a:r>
            <a:r>
              <a:rPr b="1" lang="en-US" sz="2700" spc="-1" strike="noStrike">
                <a:solidFill>
                  <a:srgbClr val="006699"/>
                </a:solidFill>
                <a:latin typeface="Lucida Sans Unicode"/>
              </a:rPr>
              <a:t>ТРАЖЕНЕ КАРАКТЕРИСТИК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29210</a:t>
            </a:r>
            <a:r>
              <a:rPr b="0" lang="sr-Latn-CS" sz="27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ОПШТ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29300 </a:t>
            </a:r>
            <a:r>
              <a:rPr b="1" lang="en-US" sz="2700" spc="-1" strike="noStrike">
                <a:solidFill>
                  <a:srgbClr val="eb8803"/>
                </a:solidFill>
                <a:latin typeface="Lucida Sans Unicode"/>
              </a:rPr>
              <a:t>КОНТРОЛНА ИСПИТИВАЊА</a:t>
            </a: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b8803"/>
                </a:solidFill>
                <a:latin typeface="Lucida Sans Unicode"/>
              </a:rPr>
              <a:t>29310</a:t>
            </a:r>
            <a:r>
              <a:rPr b="0" lang="sr-Latn-CS" sz="2300" spc="-1" strike="noStrike">
                <a:solidFill>
                  <a:srgbClr val="eb8803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eb8803"/>
                </a:solidFill>
                <a:latin typeface="Lucida Sans Unicode"/>
              </a:rPr>
              <a:t>ОПШТ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32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ВРЕМЕ ВЕЗИВАЊ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29330</a:t>
            </a:r>
            <a:r>
              <a:rPr b="0" lang="sr-Latn-CS" sz="2700" spc="-1" strike="noStrike">
                <a:solidFill>
                  <a:srgbClr val="9900cc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ПРОМЕНА ЗАПРЕМИН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29340</a:t>
            </a:r>
            <a:r>
              <a:rPr b="0" lang="sr-Latn-CS" sz="2700" spc="-1" strike="noStrike">
                <a:solidFill>
                  <a:srgbClr val="006699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ПРИТИСНА ЧВРСТОЋ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29350</a:t>
            </a:r>
            <a:r>
              <a:rPr b="0" lang="sr-Latn-CS" sz="2700" spc="-1" strike="noStrike">
                <a:solidFill>
                  <a:srgbClr val="eb8803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ИЗДВАЈАЊЕ ВОД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36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МОЋ РАЗЛИВАЊА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29361ОПШТЕ 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29362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ТРАЖЕНА МЕТОДА ЗА ОДРЕЂИВАЊЕ МОЋИ РАЗЛИВАЊ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400 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ИЗВОЂЕ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29600 ГАРАНЦ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29700 ОБРАЧУН  И  ПЛАЋА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29800 </a:t>
            </a:r>
            <a:r>
              <a:rPr b="1" lang="en-US" sz="2700" spc="-1" strike="noStrike">
                <a:solidFill>
                  <a:srgbClr val="006699"/>
                </a:solidFill>
                <a:latin typeface="Lucida Sans Unicode"/>
              </a:rPr>
              <a:t>РЕФЕРЕНТНИ СТАНДАРД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6699"/>
                </a:solidFill>
                <a:latin typeface="Lucida Sans Unicode"/>
              </a:rPr>
              <a:t>2</a:t>
            </a:r>
            <a:r>
              <a:rPr b="0" lang="en-US" sz="2600" spc="-1" strike="noStrike">
                <a:solidFill>
                  <a:srgbClr val="006699"/>
                </a:solidFill>
                <a:latin typeface="Lucida Sans Unicode"/>
              </a:rPr>
              <a:t>9200</a:t>
            </a:r>
            <a:r>
              <a:rPr b="0" lang="sr-Latn-CS" sz="2600" spc="-1" strike="noStrike">
                <a:solidFill>
                  <a:srgbClr val="006699"/>
                </a:solidFill>
                <a:latin typeface="Lucida Sans Unicode"/>
              </a:rPr>
              <a:t> </a:t>
            </a:r>
            <a:r>
              <a:rPr b="0" lang="sr-CS" sz="2600" spc="-1" strike="noStrike">
                <a:solidFill>
                  <a:srgbClr val="006699"/>
                </a:solidFill>
                <a:latin typeface="Lucida Sans Unicode"/>
              </a:rPr>
              <a:t>ТРАЖЕНЕ КАРАКТЕРИСТИКЕ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29210</a:t>
            </a: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ОПШТЕ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У Пројекту санације / реконструкције моста Газела применити подливке са великом моћи разливања  - 600 мм  при висини подливке од 40  мм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Тражена притисна чврстоћа после 24 часа:      минимум 30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MP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Тражена притисна чврстоћа после 28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dana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:      минимум 50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MP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Подливка, након очвршћавања, мора да задржи, као минимум, запремину коју је имала приликом уградње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0" y="490680"/>
            <a:ext cx="915516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C.K6.020/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Vruće valjani čelici. Betonski čelici. </a:t>
            </a:r>
            <a:r>
              <a:rPr b="0" lang="es-C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ehnički uslovi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RPS EN  10080 /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PS C.K6.120/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udevaljani čelici. Betonski čelici. 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Oblik i mere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</a:rPr>
              <a:t>SRPS EN  10080 /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eea"/>
                </a:solidFill>
                <a:latin typeface="Arial"/>
              </a:rPr>
              <a:t>SRPS U.M 1.091/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7eea"/>
                </a:solidFill>
                <a:latin typeface="Arial"/>
              </a:rPr>
              <a:t>Građevinske zavarene armature mreže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</a:rPr>
              <a:t>SRPS EN 10080 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58d01"/>
                </a:solidFill>
                <a:latin typeface="Arial"/>
              </a:rPr>
              <a:t>SRPS U.M 1.092/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8d01"/>
                </a:solidFill>
                <a:latin typeface="Arial"/>
              </a:rPr>
              <a:t>Bi-armatura. </a:t>
            </a:r>
            <a:r>
              <a:rPr b="0" lang="es-CR" sz="2400" spc="-1" strike="noStrike">
                <a:solidFill>
                  <a:srgbClr val="c58d01"/>
                </a:solidFill>
                <a:latin typeface="Arial"/>
              </a:rPr>
              <a:t>Tehnički uslovi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</a:rPr>
              <a:t>SRPS EN 10080 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0" y="562680"/>
            <a:ext cx="9144000" cy="631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EN 12811-1, (en) 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rivremena radna oprema - Deo 1: Skele - Zahtevi za izvođenje i projekt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EN 12811-2, (en) 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rivremena radna oprema - Deo 2: Informacije o materija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EN 12811-3, (en) 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ivremena radna oprema - Deo 3: Ispitivanje opterećen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  <a:ea typeface="Times New Roman"/>
              </a:rPr>
              <a:t>SRPS ENV 13670-1 : 2010</a:t>
            </a:r>
            <a:r>
              <a:rPr b="1" lang="sr-Latn-CS" sz="2400" spc="-1" strike="noStrike">
                <a:solidFill>
                  <a:srgbClr val="ea157a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2b4a76"/>
                </a:solidFill>
                <a:latin typeface="Arial"/>
                <a:ea typeface="Times New Roman"/>
              </a:rPr>
              <a:t> na engles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a157a"/>
                </a:solidFill>
                <a:latin typeface="Arial"/>
                <a:ea typeface="Times New Roman"/>
              </a:rPr>
              <a:t>Izvođenje betonskih konstrukcija – Deo 1: Op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a326"/>
                </a:solidFill>
                <a:latin typeface="Arial"/>
                <a:ea typeface="Times New Roman"/>
              </a:rPr>
              <a:t>EN 1090-1 i EN 1090-2 </a:t>
            </a:r>
            <a:r>
              <a:rPr b="1" lang="sr-Latn-CS" sz="2400" spc="-1" strike="noStrike">
                <a:solidFill>
                  <a:srgbClr val="2b4a76"/>
                </a:solidFill>
                <a:latin typeface="Arial"/>
                <a:ea typeface="Times New Roman"/>
              </a:rPr>
              <a:t>na engles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a326"/>
                </a:solidFill>
                <a:latin typeface="Arial"/>
                <a:ea typeface="Times New Roman"/>
              </a:rPr>
              <a:t>Izvo</a:t>
            </a:r>
            <a:r>
              <a:rPr b="1" lang="sr-Latn-CS" sz="2400" spc="-1" strike="noStrike">
                <a:solidFill>
                  <a:srgbClr val="5fa326"/>
                </a:solidFill>
                <a:latin typeface="Arial"/>
                <a:ea typeface="Times New Roman"/>
              </a:rPr>
              <a:t>đenje čeličnih ko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838080" y="609480"/>
            <a:ext cx="76932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eb8803"/>
                </a:solidFill>
                <a:latin typeface="Lucida Sans Unicode"/>
              </a:rPr>
              <a:t>Kod pravilno organizovane projektne dokumentacije, Tehničke specifikacije treba da predhode predmeru i predračunu radova. Pritom, mora postojati jasna veza između ova tri dela projekta, tj. nomenklatura koja je korišćena kod izrade tehničkih specifikacija treba da se pojavi ikod predmerskih odnosno predračunskih pozicija.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228240"/>
            <a:ext cx="8229600" cy="635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sr-Latn-CS" sz="2400" spc="-1" strike="noStrike">
                <a:solidFill>
                  <a:srgbClr val="002060"/>
                </a:solidFill>
                <a:latin typeface="Lucida Sans Unicode"/>
              </a:rPr>
              <a:t>Svaka pozicija, opisana u tehničkim specifikacijama mora da ima jednoznačno definisane sledeće element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Rad na koji se odnosi pozic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Tražena (uslovljena) tehnologija izvodjenja predmetnog ra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Potencijalni rizici po bezbednost i zdravlje ljudi na radu i potrebne preventivne me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Potencijalni rizici po zaštitu životne sredine i potrebne preventivne me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Način obračuna  (napr. m2) – </a:t>
            </a:r>
            <a:r>
              <a:rPr b="0" lang="sr-Latn-CS" sz="2400" spc="-1" strike="noStrike">
                <a:solidFill>
                  <a:srgbClr val="feb80a"/>
                </a:solidFill>
                <a:latin typeface="Lucida Sans Unicode"/>
              </a:rPr>
              <a:t>svi elementi koji su obuhvaćeni obračunskom jedinicom moraju biti taksativno navedeni (napr. nabavka materijala, transport, gradilišna manipulacija, ugradnja, konačna ispitivanja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Garanci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Svaki element obuhvaćen u tački 5) mora biti povezan sa odgovarajućim standardom (ako postoji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655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Lucida Sans Unicode"/>
              </a:rPr>
              <a:t>MASTERFORMAT ™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Lucida Sans Unicode"/>
              </a:rPr>
              <a:t>2004 EDITION NUMBERS &amp; TITL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601720" y="3107880"/>
            <a:ext cx="39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STERFORMAT 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EDITION NUMBERS &amp;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504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20000 </a:t>
            </a:r>
            <a:r>
              <a:rPr b="0" lang="en-US" sz="3600" spc="-1" strike="noStrike">
                <a:solidFill>
                  <a:srgbClr val="ff0000"/>
                </a:solidFill>
                <a:latin typeface="Lucida Sans Unicode"/>
              </a:rPr>
              <a:t>  </a:t>
            </a: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БЕТОНСКИ РАДОВИ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20010</a:t>
            </a:r>
            <a:r>
              <a:rPr b="0" lang="sr-Latn-CS" sz="2700" spc="-1" strike="noStrike">
                <a:solidFill>
                  <a:srgbClr val="9900cc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ОПШТЕ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5b6f"/>
                </a:solidFill>
                <a:latin typeface="Lucida Sans Unicode"/>
              </a:rPr>
              <a:t>20060</a:t>
            </a:r>
            <a:r>
              <a:rPr b="0" lang="sr-Latn-CS" sz="2700" spc="-1" strike="noStrike">
                <a:solidFill>
                  <a:srgbClr val="4e5b6f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e5b6f"/>
                </a:solidFill>
                <a:latin typeface="Lucida Sans Unicode"/>
              </a:rPr>
              <a:t>ГАРАНЦИЈА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20100 СКЕЛЕ И ОПЛАТ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b8803"/>
                </a:solidFill>
                <a:latin typeface="Lucida Sans Unicode"/>
              </a:rPr>
              <a:t>21000</a:t>
            </a: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  </a:t>
            </a:r>
            <a:r>
              <a:rPr b="1" lang="en-US" sz="2700" spc="-1" strike="noStrike">
                <a:solidFill>
                  <a:srgbClr val="eb8803"/>
                </a:solidFill>
                <a:latin typeface="Lucida Sans Unicode"/>
              </a:rPr>
              <a:t>АРМАТУРА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157a"/>
                </a:solidFill>
                <a:latin typeface="Lucida Sans Unicode"/>
              </a:rPr>
              <a:t>21200 ОБРАЧУН И ПЛАЋАЊЕ</a:t>
            </a:r>
            <a:r>
              <a:rPr b="1" lang="en-US" sz="2700" spc="-1" strike="noStrike">
                <a:solidFill>
                  <a:srgbClr val="ea157a"/>
                </a:solidFill>
                <a:latin typeface="Lucida Sans Unicode"/>
              </a:rPr>
              <a:t> </a:t>
            </a:r>
            <a:r>
              <a:rPr b="0" lang="en-US" sz="2700" spc="-1" strike="noStrike">
                <a:solidFill>
                  <a:srgbClr val="ea157a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121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КЛАСИЧНА (ЧЕЛИЧНА) АРМАТУРА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21220 МИКРО  АРМАТУРА ОД  СТАКЛЕНИХ / ПОЛИПРОПИЛЕНСКИХ  ВЛАК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cc"/>
                </a:solidFill>
                <a:latin typeface="Lucida Sans Unicode"/>
              </a:rPr>
              <a:t>29000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  </a:t>
            </a:r>
            <a:r>
              <a:rPr b="1" lang="en-US" sz="2700" spc="-1" strike="noStrike">
                <a:solidFill>
                  <a:srgbClr val="9900cc"/>
                </a:solidFill>
                <a:latin typeface="Lucida Sans Unicode"/>
              </a:rPr>
              <a:t>ПОДЛИВКЕ 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01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ОПШТЕ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900"/>
                </a:solidFill>
                <a:latin typeface="Lucida Sans Unicode"/>
              </a:rPr>
              <a:t>29030</a:t>
            </a:r>
            <a:r>
              <a:rPr b="0" lang="sr-Latn-CS" sz="2700" spc="-1" strike="noStrike">
                <a:solidFill>
                  <a:srgbClr val="0099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9900"/>
                </a:solidFill>
                <a:latin typeface="Lucida Sans Unicode"/>
              </a:rPr>
              <a:t>УСЛОВ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29100 </a:t>
            </a: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ВРСТЕ ПОДЛИВКИ</a:t>
            </a:r>
            <a:r>
              <a:rPr b="0" lang="en-US" sz="26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29110</a:t>
            </a:r>
            <a:r>
              <a:rPr b="0" lang="sr-Latn-CS" sz="2600" spc="-1" strike="noStrike">
                <a:solidFill>
                  <a:srgbClr val="4e5b6f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СУВЕ ПОДЛИВКЕ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8803"/>
                </a:solidFill>
                <a:latin typeface="Lucida Sans Unicode"/>
              </a:rPr>
              <a:t>29120</a:t>
            </a:r>
            <a:r>
              <a:rPr b="0" lang="sr-Latn-CS" sz="2600" spc="-1" strike="noStrike">
                <a:solidFill>
                  <a:srgbClr val="eb8803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eb8803"/>
                </a:solidFill>
                <a:latin typeface="Lucida Sans Unicode"/>
              </a:rPr>
              <a:t>ПОДЛИВКЕ СА АЛУМИНИЈУМСКИМ ОКСИДОМ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29130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ПОДЛИВКЕ СА АГРЕГАТОМ ОД ГВОЖЂА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29140</a:t>
            </a: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ПОДЛИВКЕ СА ВАЗДУШНИМ МЕХУРИЋИМА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cc"/>
                </a:solidFill>
                <a:latin typeface="Lucida Sans Unicode"/>
              </a:rPr>
              <a:t>29150ПОДЛИВКЕ СА ЕКСПАНЗИОНИМ ЦЕМЕНТИМА 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29160</a:t>
            </a:r>
            <a:r>
              <a:rPr b="0" lang="sr-Latn-CS" sz="2600" spc="-1" strike="noStrike">
                <a:solidFill>
                  <a:srgbClr val="4e5b6f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ЕПОКСИ ПОДЛИВКЕ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Lucida Sans Unicode"/>
              </a:rPr>
              <a:t>29180</a:t>
            </a:r>
            <a:r>
              <a:rPr b="0" lang="sr-Latn-CS" sz="2600" spc="-1" strike="noStrike">
                <a:solidFill>
                  <a:srgbClr val="006699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Lucida Sans Unicode"/>
              </a:rPr>
              <a:t>ФАБРИЧКИ ПРИПРЕМЉЕНЕ МЕШАВИНЕ ЗА ПОДЛИВКЕ СА ХИДРАУЛИЧКИМ ЦЕМЕНТИМА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8:58:06Z</dcterms:created>
  <dc:creator>C&amp;N</dc:creator>
  <dc:description/>
  <dc:language>en-US</dc:language>
  <cp:lastModifiedBy>Korisnik</cp:lastModifiedBy>
  <dcterms:modified xsi:type="dcterms:W3CDTF">2012-04-22T16:06:02Z</dcterms:modified>
  <cp:revision>12</cp:revision>
  <dc:subject/>
  <dc:title>   TEHNIČKE SPECIFIKACIJE</dc:title>
</cp:coreProperties>
</file>